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77A1-D021-4F3C-9F7A-BB637CF3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516D-87FE-4F66-8492-58906F03E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/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from MOD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vers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typed by OBO classes can b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notation data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trial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do-compl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y-attribu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y can be tightly interwoven: somatic cell mu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he assay can be interwo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comparison is only possible insofar as we can have representations that are independent of a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return to the acidity example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tity is not a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: ‘Observable’ [drysdale]. Observable introduces an extra layer of indirection and the unneccessary concept of ob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 dependent continuant is an entity too,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vs 4D. spatial regions; spatiotemporal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eria: do all the parts exist at the sam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S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A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values: nicotine, peanut butter, alcoho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is not an attribute (higher order predicat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don’t exist in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py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se studies from GO in the session on use-cases will illustrate both types of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A87A-6137-4686-85CB-79D231F4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4AD-D55F-46DD-8BB1-10D3034A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E11-455C-4937-81FE-E75EA2A3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59B-FCD3-45EF-8766-19F01ACC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5C7-B131-44F7-B629-569EBB47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0B9-D8D6-4F90-9627-B237444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584-6667-4B47-A4B7-12D72D59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FD3-1EEF-4A1C-9E79-3E346CD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10E-B9B2-4323-9A90-D15DBAEC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819-C1CB-466A-A6DF-60544BD3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3AC-A35F-4357-9176-D35D9883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C4B-8DFB-4E08-AAFE-2BF502C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3F4-BC50-4E7B-A68D-67EBC660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CECF-3199-46FF-A735-026FB508A736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572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33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664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24560" y="41148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2895480" cy="2314440"/>
          </a:xfrm>
          <a:prstGeom prst="rect">
            <a:avLst/>
          </a:prstGeom>
          <a:ln w="0">
            <a:noFill/>
          </a:ln>
        </p:spPr>
      </p:pic>
      <p:cxnSp>
        <p:nvCxnSpPr>
          <p:cNvPr id="58" name=""/>
          <p:cNvCxnSpPr>
            <a:stCxn id="51" idx="0"/>
            <a:endCxn id="48" idx="2"/>
          </p:cNvCxnSpPr>
          <p:nvPr/>
        </p:nvCxnSpPr>
        <p:spPr>
          <a:xfrm flipV="1">
            <a:off x="6248520" y="5181480"/>
            <a:ext cx="360" cy="9147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3"/>
            <a:endCxn id="52" idx="2"/>
          </p:cNvCxnSpPr>
          <p:nvPr/>
        </p:nvCxnSpPr>
        <p:spPr>
          <a:xfrm flipV="1">
            <a:off x="6934320" y="3924360"/>
            <a:ext cx="495360" cy="990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1"/>
            <a:endCxn id="53" idx="2"/>
          </p:cNvCxnSpPr>
          <p:nvPr/>
        </p:nvCxnSpPr>
        <p:spPr>
          <a:xfrm flipH="1" flipV="1">
            <a:off x="5067000" y="3924360"/>
            <a:ext cx="496080" cy="99072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893880" y="1600200"/>
            <a:ext cx="6456600" cy="1494000"/>
            <a:chOff x="893880" y="1600200"/>
            <a:chExt cx="6456600" cy="149400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893880" y="1600200"/>
              <a:ext cx="85248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14880" y="1897200"/>
              <a:ext cx="493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Denti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93880" y="3497400"/>
            <a:ext cx="6420600" cy="1008360"/>
            <a:chOff x="893880" y="3497400"/>
            <a:chExt cx="6420600" cy="1008360"/>
          </a:xfrm>
        </p:grpSpPr>
        <p:grpSp>
          <p:nvGrpSpPr>
            <p:cNvPr id="162" name=""/>
            <p:cNvGrpSpPr/>
            <p:nvPr/>
          </p:nvGrpSpPr>
          <p:grpSpPr>
            <a:xfrm>
              <a:off x="893880" y="3505320"/>
              <a:ext cx="914400" cy="761760"/>
              <a:chOff x="893880" y="3505320"/>
              <a:chExt cx="914400" cy="761760"/>
            </a:xfrm>
          </p:grpSpPr>
          <p:sp>
            <p:nvSpPr>
              <p:cNvPr id="163" name=""/>
              <p:cNvSpPr/>
              <p:nvPr/>
            </p:nvSpPr>
            <p:spPr>
              <a:xfrm>
                <a:off x="893880" y="3657600"/>
                <a:ext cx="838080" cy="609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03360" y="3505320"/>
                <a:ext cx="30492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82760" y="3691080"/>
                <a:ext cx="30492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74760" y="388620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55640" y="358128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2378880" y="3497400"/>
              <a:ext cx="493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yeasti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93520" y="4952880"/>
            <a:ext cx="7372800" cy="1422360"/>
            <a:chOff x="893520" y="4952880"/>
            <a:chExt cx="7372800" cy="142236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 flipH="1">
              <a:off x="893520" y="4952880"/>
              <a:ext cx="111708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07760" y="5325840"/>
              <a:ext cx="5758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agronomi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Univocity: GO adds “sensu” descriptors to discriminate among organism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-297720"/>
            <a:ext cx="815328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Importance of synonyms for utility:</a:t>
            </a:r>
            <a:br>
              <a:rPr sz="3200"/>
            </a:b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How do we represent the function of tRNA?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74" name=""/>
          <p:cNvSpPr/>
          <p:nvPr/>
        </p:nvSpPr>
        <p:spPr>
          <a:xfrm>
            <a:off x="1298520" y="1442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ly, what does the tRNA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es the codon and inserts the amino acid in the growing polypep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6880" y="3008520"/>
            <a:ext cx="273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_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11800" y="4113360"/>
            <a:ext cx="571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t_codon amino acid adaptor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0560" y="4873680"/>
            <a:ext cx="8109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tes the insertion of an amino acid at the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in the sequence of a nascent polypeptide chain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: t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6" idx="0"/>
            <a:endCxn id="175" idx="2"/>
          </p:cNvCxnSpPr>
          <p:nvPr/>
        </p:nvCxnSpPr>
        <p:spPr>
          <a:xfrm flipV="1">
            <a:off x="4570200" y="3471120"/>
            <a:ext cx="5400" cy="639000"/>
          </a:xfrm>
          <a:prstGeom prst="straightConnector1">
            <a:avLst/>
          </a:prstGeom>
          <a:ln w="57240">
            <a:solidFill>
              <a:srgbClr val="009999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Challenge of Posi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3210120" cy="2457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72160" y="4799160"/>
            <a:ext cx="70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ganelles are membrane-b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ntrosome is not a membrane bound organ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still may be considered an organ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22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Positivity: Sometimes absence is a distinction in a Biologist’s mind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465120" y="4952880"/>
            <a:ext cx="408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membrane-bound orga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:00432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1280" y="4952880"/>
            <a:ext cx="3657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e-bound orga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:0043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2400" y="2362320"/>
            <a:ext cx="321012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029200" y="2455920"/>
            <a:ext cx="41148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osi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e the logical difference betwee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n-membrane-bound organell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 an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 a membrane-bound organell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atter includes everything that is not a membrane bound organelle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Objectivity: Database users want to know if we don’t know anything (Exhaustiveness with respect to knowledge)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14600" y="2819520"/>
          <a:ext cx="4648320" cy="32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819520"/>
                    <a:ext cx="4648320" cy="32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28600" y="3809880"/>
            <a:ext cx="2438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know an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a gene product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 to th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876920"/>
            <a:ext cx="5335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80060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86000" y="40384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19920" y="4648320"/>
            <a:ext cx="838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657600"/>
            <a:ext cx="25909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know an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he ligand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s this type of GP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bjec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we use GO to annotate gene products when we know that we don’t have any information about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GO has terms in each ontology to describe unknow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alternative might be to annotate genes to root nodes and use an evidence code to describe that we have no dat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strategies could be used for things like receptors where the ligand is unknow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ingle Inheritanc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has a lot of is_a diamon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are due to incompleteness of the grap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are due to a mixture of dissimilar classes within the graph at the sam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505320" y="1600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00996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97180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s_a diamond in GO Proces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4035240" y="19051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7600" y="3238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15200" y="32385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2920" y="50292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4960" y="2666880"/>
            <a:ext cx="9903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403848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2666880"/>
            <a:ext cx="11430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76720" y="160020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1240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12408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s_a diamond in GO Func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19" name=""/>
          <p:cNvSpPr/>
          <p:nvPr/>
        </p:nvSpPr>
        <p:spPr>
          <a:xfrm>
            <a:off x="3373200" y="182880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70280" y="327672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92360" y="320040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4120" y="487692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743200" y="274320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191120"/>
            <a:ext cx="6858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ree practical considera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cknowledge the substantive issues of sociology and operations to build commun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llow the principles of ontology construction hygie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notation is the rate-limiting step. It can be facilitated by improve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160020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31240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048120"/>
            <a:ext cx="3352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 </a:t>
            </a: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Is_a diamond in GO Cellular Component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2" name=""/>
          <p:cNvSpPr/>
          <p:nvPr/>
        </p:nvSpPr>
        <p:spPr>
          <a:xfrm>
            <a:off x="3890880" y="1905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4800" y="327672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73960" y="320040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3800" y="487692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819520" y="274320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4191120"/>
            <a:ext cx="6858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743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Technically the diamonds are correct, but could be eliminated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2" name=""/>
          <p:cNvSpPr/>
          <p:nvPr/>
        </p:nvSpPr>
        <p:spPr>
          <a:xfrm>
            <a:off x="5541840" y="167652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1200" y="163836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43920" y="1905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2400" y="1905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43640" y="30862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9400" y="3048120"/>
            <a:ext cx="32004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87560" y="313200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87360" y="313200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43640" y="43434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3440" y="4267080"/>
            <a:ext cx="3352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1280" y="438948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61040" y="438948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9440" y="5867280"/>
            <a:ext cx="53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se pairs have in comm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They are all differentiated from the parent term by a different factor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6" name=""/>
          <p:cNvSpPr/>
          <p:nvPr/>
        </p:nvSpPr>
        <p:spPr>
          <a:xfrm>
            <a:off x="5389560" y="13716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8560" y="133344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1640" y="1600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1976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53200" y="300204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8960" y="296388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7120" y="304812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96920" y="304812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3160" y="46782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2960" y="4602240"/>
            <a:ext cx="3352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00" y="472428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0920" y="472428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10160" y="236232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behavior vs. what is be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51840" y="40384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regulated vs. type of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0760" y="57913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organelle vs. location of 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382920" y="8380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96252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384804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Insert an intermediate grouping term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5" name=""/>
          <p:cNvSpPr/>
          <p:nvPr/>
        </p:nvSpPr>
        <p:spPr>
          <a:xfrm>
            <a:off x="3912840" y="1143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532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72400" y="4191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3360" y="5181480"/>
            <a:ext cx="38862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3080" y="56386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95288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629400" y="50292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1981080"/>
            <a:ext cx="2286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75800" y="205740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2057400"/>
            <a:ext cx="28954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9600" y="2141640"/>
            <a:ext cx="16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144792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514240" y="144792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Why insert terms that no one would use?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3871800" y="1579680"/>
            <a:ext cx="12956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1160" y="17524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8600" y="3274920"/>
            <a:ext cx="2209680" cy="685800"/>
            <a:chOff x="228600" y="3274920"/>
            <a:chExt cx="2209680" cy="685800"/>
          </a:xfrm>
        </p:grpSpPr>
        <p:sp>
          <p:nvSpPr>
            <p:cNvPr id="294" name=""/>
            <p:cNvSpPr/>
            <p:nvPr/>
          </p:nvSpPr>
          <p:spPr>
            <a:xfrm>
              <a:off x="228600" y="3274920"/>
              <a:ext cx="2209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9400" y="344952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omotory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81200" y="3218040"/>
            <a:ext cx="1981080" cy="799920"/>
            <a:chOff x="2581200" y="3218040"/>
            <a:chExt cx="1981080" cy="799920"/>
          </a:xfrm>
        </p:grpSpPr>
        <p:sp>
          <p:nvSpPr>
            <p:cNvPr id="297" name=""/>
            <p:cNvSpPr/>
            <p:nvPr/>
          </p:nvSpPr>
          <p:spPr>
            <a:xfrm>
              <a:off x="2581200" y="321804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66680" y="344952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val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1981080" y="2133720"/>
            <a:ext cx="190512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2286000"/>
            <a:ext cx="9903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07000" y="3218040"/>
            <a:ext cx="1981080" cy="799920"/>
            <a:chOff x="4707000" y="3218040"/>
            <a:chExt cx="1981080" cy="799920"/>
          </a:xfrm>
        </p:grpSpPr>
        <p:sp>
          <p:nvSpPr>
            <p:cNvPr id="302" name=""/>
            <p:cNvSpPr/>
            <p:nvPr/>
          </p:nvSpPr>
          <p:spPr>
            <a:xfrm>
              <a:off x="4707000" y="321804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42000" y="344952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hythmic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832440" y="3218040"/>
            <a:ext cx="1981440" cy="799920"/>
            <a:chOff x="6832440" y="3218040"/>
            <a:chExt cx="1981440" cy="799920"/>
          </a:xfrm>
        </p:grpSpPr>
        <p:sp>
          <p:nvSpPr>
            <p:cNvPr id="305" name=""/>
            <p:cNvSpPr/>
            <p:nvPr/>
          </p:nvSpPr>
          <p:spPr>
            <a:xfrm>
              <a:off x="6832440" y="3218040"/>
              <a:ext cx="198144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3280" y="344952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3809520" y="228600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2133720"/>
            <a:ext cx="20574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8360" y="449568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structure of this graph,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same relationship to 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o rhythm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Why insert terms that no one would use?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11" name=""/>
          <p:cNvSpPr/>
          <p:nvPr/>
        </p:nvSpPr>
        <p:spPr>
          <a:xfrm>
            <a:off x="3871800" y="1579680"/>
            <a:ext cx="12956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61160" y="17524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" y="4267080"/>
            <a:ext cx="2209680" cy="685800"/>
            <a:chOff x="228600" y="4267080"/>
            <a:chExt cx="2209680" cy="685800"/>
          </a:xfrm>
        </p:grpSpPr>
        <p:sp>
          <p:nvSpPr>
            <p:cNvPr id="314" name=""/>
            <p:cNvSpPr/>
            <p:nvPr/>
          </p:nvSpPr>
          <p:spPr>
            <a:xfrm>
              <a:off x="228600" y="4267080"/>
              <a:ext cx="2209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960" y="444168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omotory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648320" y="4191120"/>
            <a:ext cx="1981080" cy="799920"/>
            <a:chOff x="4648320" y="4191120"/>
            <a:chExt cx="1981080" cy="799920"/>
          </a:xfrm>
        </p:grpSpPr>
        <p:sp>
          <p:nvSpPr>
            <p:cNvPr id="317" name=""/>
            <p:cNvSpPr/>
            <p:nvPr/>
          </p:nvSpPr>
          <p:spPr>
            <a:xfrm>
              <a:off x="464832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33800" y="442260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val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2666520" y="2133720"/>
            <a:ext cx="11430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2057400"/>
            <a:ext cx="8384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90920" y="4191120"/>
            <a:ext cx="1981080" cy="799920"/>
            <a:chOff x="2590920" y="4191120"/>
            <a:chExt cx="1981080" cy="799920"/>
          </a:xfrm>
        </p:grpSpPr>
        <p:sp>
          <p:nvSpPr>
            <p:cNvPr id="322" name=""/>
            <p:cNvSpPr/>
            <p:nvPr/>
          </p:nvSpPr>
          <p:spPr>
            <a:xfrm>
              <a:off x="259092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25920" y="442260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hythmic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858000" y="4191120"/>
            <a:ext cx="1981080" cy="799920"/>
            <a:chOff x="6858000" y="4191120"/>
            <a:chExt cx="1981080" cy="799920"/>
          </a:xfrm>
        </p:grpSpPr>
        <p:sp>
          <p:nvSpPr>
            <p:cNvPr id="325" name=""/>
            <p:cNvSpPr/>
            <p:nvPr/>
          </p:nvSpPr>
          <p:spPr>
            <a:xfrm>
              <a:off x="685800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88120" y="442260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H="1">
            <a:off x="1371600" y="35053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72440" y="5334120"/>
            <a:ext cx="71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ctually, locomotory behavior/rhythm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arval behavior/adult behavior group natu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743200"/>
            <a:ext cx="138600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9000" y="2819520"/>
            <a:ext cx="118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29200" y="2514600"/>
            <a:ext cx="1462320" cy="104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73640" y="2666880"/>
            <a:ext cx="98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3505320"/>
            <a:ext cx="4572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019920" y="36576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560" y="1828800"/>
            <a:ext cx="76201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ype of single step differentiation of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levels would allow us to us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nodes and levels to compare simi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GO Definition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4920" y="1752480"/>
          <a:ext cx="563868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563868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04920" y="3581280"/>
          <a:ext cx="543852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543852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80880" y="4952880"/>
          <a:ext cx="5878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5878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04920" y="3581280"/>
            <a:ext cx="5562360" cy="3048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1203840"/>
            <a:ext cx="3465720" cy="245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finition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olog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&amp;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ritte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not compu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5840" y="4106880"/>
            <a:ext cx="3011400" cy="20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structur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compu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lationships and defini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set of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necessary condit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is determined by the grap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can be considered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ia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efini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mportant consideration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lacement in the graph- selecting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ropriate relationships to different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ue path vio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importance of relationship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clin dependent protein kin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lex has a catalytic and a regulatory sub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represent these activities (function) in the ontology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we need a new relationship type (regulates)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1525320" y="35542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720" y="40114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080" y="4621320"/>
            <a:ext cx="32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Ser/Thr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4320" y="5383080"/>
            <a:ext cx="42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dependent protein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36360" y="5992920"/>
            <a:ext cx="52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dependent protein kinas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32480" y="3124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cular_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3720" y="3782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ym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21040" y="454500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kinas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971800" y="3429000"/>
            <a:ext cx="914400" cy="2286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9320" y="3886200"/>
            <a:ext cx="228600" cy="2286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523880" y="4343400"/>
            <a:ext cx="457200" cy="3808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61760" y="4876920"/>
            <a:ext cx="533160" cy="6094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3429000"/>
            <a:ext cx="1067040" cy="4572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4114800"/>
            <a:ext cx="609840" cy="53352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629400" y="4876920"/>
            <a:ext cx="457200" cy="121896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lationships provide the computable defini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definition of a class lower down in the hierarchy is provided by specifying the parent of the class together with the relevant differentia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 tells us what marks out instances of the defined class within the wider parent clas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8760" y="6172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osoph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3392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eeting the goal: Drawing infere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1938240" y="2819520"/>
            <a:ext cx="838440" cy="304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8748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362320"/>
            <a:ext cx="8763120" cy="1218960"/>
          </a:xfrm>
          <a:prstGeom prst="parallelogram">
            <a:avLst>
              <a:gd name="adj" fmla="val -1373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7500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424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1176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6100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819520"/>
            <a:ext cx="838080" cy="304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5880" y="2514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1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88240" y="2514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87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34040" y="25146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193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13440" y="2438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7640" y="1930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5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6120" y="1930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44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88620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98680" y="434340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4038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483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41008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98680" y="586728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8280" y="6019920"/>
            <a:ext cx="53316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5440" y="586728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49640" y="5562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482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10160" y="5562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389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178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15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8360" y="21049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60640" y="212256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8148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24040" y="35812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7560" y="510552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7640" y="43434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89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3600" y="6172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95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9800" y="6095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39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48120" y="60958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638320" y="6095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880" y="3147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040" y="46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en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Structured definitions contain both </a:t>
            </a:r>
            <a:r>
              <a:rPr b="1" lang="en-US" sz="3200" spc="-1" strike="noStrike">
                <a:solidFill>
                  <a:srgbClr val="6599cd"/>
                </a:solidFill>
                <a:latin typeface="Gill Sans"/>
              </a:rPr>
              <a:t>genus</a:t>
            </a: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 and </a:t>
            </a:r>
            <a:r>
              <a:rPr b="1" lang="en-US" sz="3200" spc="-1" strike="noStrike">
                <a:solidFill>
                  <a:srgbClr val="6599cd"/>
                </a:solidFill>
                <a:latin typeface="Gill Sans"/>
              </a:rPr>
              <a:t>differentiae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04920" y="2057400"/>
          <a:ext cx="41623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41623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306720" y="31212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ce = Genus + Different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9240" y="3730680"/>
            <a:ext cx="769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 cell differentiatio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ocesses whereby a rel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pecialized cell acquires the specialized features of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s feature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4560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99cd"/>
                </a:solidFill>
                <a:latin typeface="Gill Sans"/>
              </a:rPr>
              <a:t>Alignment of the Two Ontologies will permit the generation of consistent and complete definitions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27040" y="3006720"/>
            <a:ext cx="5562720" cy="1828800"/>
            <a:chOff x="527040" y="3006720"/>
            <a:chExt cx="5562720" cy="1828800"/>
          </a:xfrm>
        </p:grpSpPr>
        <p:sp>
          <p:nvSpPr>
            <p:cNvPr id="375" name=""/>
            <p:cNvSpPr/>
            <p:nvPr/>
          </p:nvSpPr>
          <p:spPr>
            <a:xfrm>
              <a:off x="527040" y="3006720"/>
              <a:ext cx="55627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id: CL:000006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ame: osteobla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def: "A bone-forming cell which secretes an extracellular matrix. Hydroxyapatite crystals are then deposited into the matrix to form bone." [MESH:A.11.329.629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is_a: CL:00000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lationship: develops_from CL:0000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lationship: develops_from CL:000037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7040" y="3006720"/>
              <a:ext cx="5334120" cy="182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214760" y="1828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60520" y="3716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1000" y="563868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32840" y="25304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32840" y="4799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7040" y="5267160"/>
            <a:ext cx="5410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oblast differentiation: Processes whereby an osteoprogenitor cell or a cranial neural crest cell acquires the specialized features of an osteoblast, a bone-forming cell which secretes extracellular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27040" y="1482840"/>
            <a:ext cx="5334120" cy="1143000"/>
            <a:chOff x="527040" y="1482840"/>
            <a:chExt cx="5334120" cy="1143000"/>
          </a:xfrm>
        </p:grpSpPr>
        <p:graphicFrame>
          <p:nvGraphicFramePr>
            <p:cNvPr id="384" name=""/>
            <p:cNvGraphicFramePr/>
            <p:nvPr/>
          </p:nvGraphicFramePr>
          <p:xfrm>
            <a:off x="527040" y="1482840"/>
            <a:ext cx="533412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7040" y="1482840"/>
                      <a:ext cx="5334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6" name=""/>
            <p:cNvSpPr/>
            <p:nvPr/>
          </p:nvSpPr>
          <p:spPr>
            <a:xfrm>
              <a:off x="527040" y="1482840"/>
              <a:ext cx="533412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Alignment of the Two Ontologies will permit the generation of consistent and complete definitions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>
            <a:off x="1031760" y="2148120"/>
            <a:ext cx="7086600" cy="248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GO:0001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osteoblast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: osteoblast cell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s: differentiation GO:0030154 (different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um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quires_features_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L:0000062 (osteobl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(text): Processes whereby a relatively unspecialized cell acquires the specialized features of an osteoblast, the mesodermal cell that gives rise to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103720"/>
            <a:ext cx="8229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definitions with necessary and sufficient conditions, in both human readable and computer readabl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Basis in Reality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is designed by a consort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 long as egos don’t get in the way, GO represents universals rather than concep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arge-scale developments of the GO are a result of compromi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 Annotators have a large say in GO con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ors are experts in their fiel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ors constantly read the scientific liter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1676520"/>
            <a:ext cx="8001000" cy="281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since GO is representing a scienc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ly represents paradig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it is essential that GO is able to cha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asses and Insta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should we create a new class as opposed to multiple annotation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the the biology represents a universal principal. Receptor signaling protein tyrosine kinase activity does not represent receptor signaling protein activity and tyrosine kinase activity independently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nsequences of inconsistenc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ard to synchronize manual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 be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requires text min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consistent user-search resul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blems likely to resurface with other ontologies embedded in the 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, prote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species-specific anatomical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 ontologies should inform 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mbinatorial annot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ow combinatorial annotations in appropriate 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ypic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tail f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cem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ventraliz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t sta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haryngula:prim25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binatorial GO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activation of MAP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mesenchymal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AmiGO will allow for these annot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verview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llowing basic rules helps make better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will work through the principles-based treatment of relations in ontologies, to show how ontologies can become more reliable and more powerfu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P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ertroph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id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" y="2100240"/>
            <a:ext cx="4386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61200" y="31687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yndrome =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Why do we need rules for good ontology?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must be intelligible both to humans (for annotation) and to machines (for reasoning and error-checking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ntuitive rules for classification lead to entry errors (problematic link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cilitate training of curato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vercome obstacles to alignment with other ontology and terminology syste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hance harvesting of content through automatic reasoning syste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" y="1143000"/>
          <a:ext cx="8686800" cy="46990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Brush Script MT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th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“annotation” appl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 and interface to store &amp;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y require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ecies-specif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integr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view of proposed (2003) EAV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henotype is described using an Entity-Attribute-Value trip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iar “slot-value” frame-based syst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ntities are drawn from various OBO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ttributes and Values in one ontology -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eparation of concer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pheno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ssay, measurement syst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616680" y="487692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| Valu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32080" y="4302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2003 Pilot stud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al of EAV model on small collection of g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s were non-orthologo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curations - in progr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thologous genes with clinical releva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the same data model and exchange format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xample data record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990720" y="2438280"/>
          <a:ext cx="6103800" cy="2971800"/>
        </p:xfrm>
        <a:graphic>
          <a:graphicData uri="http://schemas.openxmlformats.org/drawingml/2006/table">
            <a:tbl>
              <a:tblPr/>
              <a:tblGrid>
                <a:gridCol w="1523880"/>
                <a:gridCol w="838080"/>
                <a:gridCol w="1836720"/>
                <a:gridCol w="1905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ZFIN schema extension: stag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2438280"/>
          <a:ext cx="8466120" cy="2971800"/>
        </p:xfrm>
        <a:graphic>
          <a:graphicData uri="http://schemas.openxmlformats.org/drawingml/2006/table">
            <a:tbl>
              <a:tblPr/>
              <a:tblGrid>
                <a:gridCol w="1352520"/>
                <a:gridCol w="2762280"/>
                <a:gridCol w="1295640"/>
                <a:gridCol w="1371600"/>
                <a:gridCol w="168408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Pec-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Pec-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Long-p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Larval:Protruding-m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tag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40720" y="3429000"/>
            <a:ext cx="7038720" cy="16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ge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g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AnatomicalStage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| Valu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521680" y="60958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means zero or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943600" y="1879560"/>
            <a:ext cx="2514600" cy="1015920"/>
          </a:xfrm>
          <a:prstGeom prst="cloudCallout">
            <a:avLst>
              <a:gd name="adj1" fmla="val -73296"/>
              <a:gd name="adj2" fmla="val 86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l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641760" y="1843200"/>
            <a:ext cx="1865160" cy="761760"/>
          </a:xfrm>
          <a:prstGeom prst="cloudCallout">
            <a:avLst>
              <a:gd name="adj1" fmla="val -1662"/>
              <a:gd name="adj2" fmla="val -15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14320" y="1879560"/>
            <a:ext cx="1852560" cy="863640"/>
          </a:xfrm>
          <a:prstGeom prst="cloudCallout">
            <a:avLst>
              <a:gd name="adj1" fmla="val -111870"/>
              <a:gd name="adj2" fmla="val 1261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3000" y="324468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3240" y="4648320"/>
            <a:ext cx="2664000" cy="1711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2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The Challenge of Univocity:</a:t>
            </a:r>
            <a:br>
              <a:rPr sz="4000"/>
            </a:b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People call the same thing by different name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ation of the schema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should EAV data records b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interprete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by a computer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instanc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s the EAV schema just to improve database searching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n it be used for meaningful cross-species comparison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Entity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>
            <a:off x="5531760" y="62485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 trial data: FB &amp; Z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Entity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practical term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 ID from one of the following ontolog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C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B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MF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pecies-specific anatomical ontolog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OBO Cel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 cross-produc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cidification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GO:0045851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hich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locatio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OBOR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Gill Sans"/>
              </a:rPr>
              <a:t>L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midgut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FBbt0000538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[example from FBal0062296: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Acidification in the midgut of homozygous larvae is often less than in wild-type larvae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ut what does 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 the context of an annotat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Universals and particula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ntology consist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univers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class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mental data generally concer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icular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stances) that instantiate universa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g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 participating in 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ight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from here to t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 annotation we often use a class ID as a proxy for an (unnamed) instance (or collection of instance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t is important to always keep this distinction in min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24560" cy="49528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an Entity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48240" y="190512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BO - Upper Bio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FO - Basic Forma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Attribute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"/>
          <p:cNvSpPr/>
          <p:nvPr/>
        </p:nvSpPr>
        <p:spPr>
          <a:xfrm>
            <a:off x="5531760" y="62485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 trial data: FB &amp; Z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ttributes: a proposa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eat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pendent 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quality must have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ndependent entity(s)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s bear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heres_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the bear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bal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w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a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synaptic transmission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tween these two neur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ttribute universals vs Attribute particula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 an EAV annotation, a PATO class ID typically serves  as a proxy for an unnamed attribute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iversals (classes) must always be defined in terms of their instanc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5867280"/>
            <a:ext cx="7772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ormal Theory of Substances, Qualities,  and Univer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bian NEUHAUS Pierre GRENON Barry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0388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How is the value slot used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dundancy in EAV tripl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30960" y="1811160"/>
            <a:ext cx="2493720" cy="1160640"/>
          </a:xfrm>
          <a:prstGeom prst="cloudCallout">
            <a:avLst>
              <a:gd name="adj1" fmla="val -72967"/>
              <a:gd name="adj2" fmla="val 91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le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36880" y="1751760"/>
            <a:ext cx="1870200" cy="871560"/>
          </a:xfrm>
          <a:prstGeom prst="cloudCallout">
            <a:avLst>
              <a:gd name="adj1" fmla="val 16245"/>
              <a:gd name="adj2" fmla="val -1274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27880" y="1811160"/>
            <a:ext cx="1435320" cy="928800"/>
          </a:xfrm>
          <a:prstGeom prst="cloudCallout">
            <a:avLst>
              <a:gd name="adj1" fmla="val -125726"/>
              <a:gd name="adj2" fmla="val 121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24080" y="4673520"/>
            <a:ext cx="2494080" cy="195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0560" y="381780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 of touch ; GO:0050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40040" y="4656240"/>
            <a:ext cx="372960" cy="288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95928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63880" y="3319560"/>
            <a:ext cx="37440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3960" y="477216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0280" y="3900600"/>
            <a:ext cx="37440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2000" y="326232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Univocity: GO uses 1 term and many characterized synonym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al: EA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"/>
          <p:cNvSpPr/>
          <p:nvPr/>
        </p:nvSpPr>
        <p:spPr>
          <a:xfrm>
            <a:off x="289548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al: EA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"/>
          <p:cNvSpPr/>
          <p:nvPr/>
        </p:nvSpPr>
        <p:spPr>
          <a:xfrm>
            <a:off x="289548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769320" y="266688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ed schema modific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3200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onadic and relational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adic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attribute inheres in a single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attribute inheres in two or more ent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nsitivity of an organism to a kind of drug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nsitivity of an eye to a wavelength of 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turn relational attributes into cross-product monadic attribu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sensitivityToRed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etter to use relational attribu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voids redundancy with existing ontolog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45280" y="266688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corporating relational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281160" y="46483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data rec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44560" y="5029200"/>
            <a:ext cx="5255640" cy="69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ganism” sensitiveTo “puromyci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easurable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attributes are inexact and implicitly relative to a wild-type or normal attribu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latively short, relatively long, relatively reduc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sier than explicitly representing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tail length shorter-than ‘canonical mouse’ wild-type tail lengt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attributes are determin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a measure 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nit, value, {time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tail has length 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easure(L, cm) =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ep measurements separate from (but linked to) attribut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corporating measure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844920" y="2666880"/>
            <a:ext cx="7861680" cy="16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Entity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asuremen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asurement = Unit Value 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160" y="46483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data rec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45280" y="5029200"/>
            <a:ext cx="5392800" cy="69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ut” “acidic” Measurement = “pH”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mposite phenotype class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mmalian phenotype has composite phenotype clas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“reduced B cell number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ose at annotation time or ontology curation time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alse dichotom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2 will help map between composite class based annotation and EA annot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notations are data recor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ically use class I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icitly refer to insta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do we map an annotation to instanc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mportant for using annotations computationall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1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does an EA (or EAV) annot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otype=“FBal00123” E=“brain” A=“fused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sumed implied meaning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organis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s_part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x, w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instance_of “brain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has_quality “fused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organism has a fused brain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ous built-in assum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324160" y="1905120"/>
            <a:ext cx="4365000" cy="1493640"/>
            <a:chOff x="2324160" y="1905120"/>
            <a:chExt cx="4365000" cy="14936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2324160" y="1905120"/>
              <a:ext cx="85248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158360" y="220824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27400" y="3808440"/>
            <a:ext cx="4358160" cy="763560"/>
            <a:chOff x="2327400" y="3808440"/>
            <a:chExt cx="4358160" cy="763560"/>
          </a:xfrm>
        </p:grpSpPr>
        <p:grpSp>
          <p:nvGrpSpPr>
            <p:cNvPr id="132" name=""/>
            <p:cNvGrpSpPr/>
            <p:nvPr/>
          </p:nvGrpSpPr>
          <p:grpSpPr>
            <a:xfrm>
              <a:off x="2327400" y="3810240"/>
              <a:ext cx="913680" cy="761760"/>
              <a:chOff x="2327400" y="3810240"/>
              <a:chExt cx="913680" cy="761760"/>
            </a:xfrm>
          </p:grpSpPr>
          <p:sp>
            <p:nvSpPr>
              <p:cNvPr id="133" name=""/>
              <p:cNvSpPr/>
              <p:nvPr/>
            </p:nvSpPr>
            <p:spPr>
              <a:xfrm>
                <a:off x="2327400" y="3962520"/>
                <a:ext cx="837720" cy="609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36520" y="3810240"/>
                <a:ext cx="30456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15920" y="3996000"/>
                <a:ext cx="30456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07920" y="4191120"/>
                <a:ext cx="7596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88800" y="3886200"/>
                <a:ext cx="7596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54760" y="380844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9240" y="5105520"/>
            <a:ext cx="4434840" cy="1422360"/>
            <a:chOff x="2289240" y="5105520"/>
            <a:chExt cx="4434840" cy="142236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flipH="1">
              <a:off x="2289240" y="5105520"/>
              <a:ext cx="111744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193280" y="548496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Univocity: People use the same words to describe different thing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otype=“FBal00123” E=“wing” A=“absent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ly98 has_part x, w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instance_of “wing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has_quality “absent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fly has a wing which is not t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(this organism has_part x, where x instance_of “wing”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notype=“FBal00123” E=“wing” A=“absent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x instance_of “wing”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x has_quality “absent”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fly has a wing which is not t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organism has_quality “wingless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ngless” = the property of having count(has_part “wing”)=0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re our computational representations intended to capture linguistic statements or reality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oes this matte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ogical reasoners will compute incorrect 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less explicitly provided with specific rules for certain attributes such as “absen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at are the consequenc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ic search will be f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“find all wing phenotypes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ut computers will not be able to reason correct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170172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“digit” A=“supernumer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same interpretation as annotation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instance_of “dig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has_quality “supernume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 a particular finger which is supernu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person has_quality “supernumery fing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pernumery finger” =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he property of havin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count(has_part “digit”) &gt; wild-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87240" y="1296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240" y="146196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=“mp001” E=“brown fat cell” A=“increased quant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instance_of “brown fat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has_quality “increased quant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 a particular brown fat cell which is increased in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population_of(“brown fat cell”) which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s_qualit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crease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ther use cas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ermatocyte devoid of ast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meotic transform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reased distance between wing vei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 vs 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lternate perspectiv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vs sta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gulatory process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cidification of midgut has_quality reduced ra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idgut has_quality low acid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ment vs behavi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ng development has_quality abnorm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ight has_quality intermit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anularity (scal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vs molecular vs cell vs tissue vs anatomical pa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ine attributes in terms of insta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 proposed new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asurement propo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attribute propo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lexity trade-of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e library of use c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re2 will create tools to present user-friendly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perspective annotations are usefu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51000" y="4138560"/>
            <a:ext cx="3048120" cy="256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19240" y="3168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 initiation?  How is a computer to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3960" y="228600"/>
            <a:ext cx="1752480" cy="1981080"/>
            <a:chOff x="723960" y="228600"/>
            <a:chExt cx="1752480" cy="1981080"/>
          </a:xfrm>
        </p:grpSpPr>
        <p:sp>
          <p:nvSpPr>
            <p:cNvPr id="146" name=""/>
            <p:cNvSpPr/>
            <p:nvPr/>
          </p:nvSpPr>
          <p:spPr>
            <a:xfrm flipH="1">
              <a:off x="723960" y="228600"/>
              <a:ext cx="1752480" cy="1981080"/>
            </a:xfrm>
            <a:prstGeom prst="cloudCallout">
              <a:avLst>
                <a:gd name="adj1" fmla="val -121833"/>
                <a:gd name="adj2" fmla="val 929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1257120" y="457200"/>
              <a:ext cx="852480" cy="14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3505320" y="685800"/>
            <a:ext cx="8380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00400" y="152280"/>
            <a:ext cx="1981080" cy="1447920"/>
            <a:chOff x="3200400" y="152280"/>
            <a:chExt cx="1981080" cy="1447920"/>
          </a:xfrm>
        </p:grpSpPr>
        <p:sp>
          <p:nvSpPr>
            <p:cNvPr id="150" name=""/>
            <p:cNvSpPr/>
            <p:nvPr/>
          </p:nvSpPr>
          <p:spPr>
            <a:xfrm flipV="1">
              <a:off x="3200400" y="151920"/>
              <a:ext cx="1981080" cy="1447920"/>
            </a:xfrm>
            <a:prstGeom prst="cloudCallout">
              <a:avLst>
                <a:gd name="adj1" fmla="val 8092"/>
                <a:gd name="adj2" fmla="val -1484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53352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46480" y="71928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8480" y="91440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360" y="6094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905440" y="228600"/>
            <a:ext cx="2514600" cy="2057400"/>
            <a:chOff x="5905440" y="228600"/>
            <a:chExt cx="2514600" cy="2057400"/>
          </a:xfrm>
        </p:grpSpPr>
        <p:sp>
          <p:nvSpPr>
            <p:cNvPr id="156" name=""/>
            <p:cNvSpPr/>
            <p:nvPr/>
          </p:nvSpPr>
          <p:spPr>
            <a:xfrm>
              <a:off x="5905440" y="228600"/>
              <a:ext cx="2514600" cy="2057400"/>
            </a:xfrm>
            <a:prstGeom prst="cloudCallout">
              <a:avLst>
                <a:gd name="adj1" fmla="val -78662"/>
                <a:gd name="adj2" fmla="val 860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 flipH="1">
              <a:off x="6591240" y="533520"/>
              <a:ext cx="1117440" cy="142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must adapt over tim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ting it r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t is impossible to get it right the 1st (or 2nd, or 3rd, …) time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know about biology is continually grow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s “</a:t>
            </a:r>
            <a:r>
              <a:rPr b="0" i="1" lang="en-US" sz="2400" spc="-1" strike="noStrike">
                <a:solidFill>
                  <a:srgbClr val="0000ff"/>
                </a:solidFill>
                <a:latin typeface="Gill Sans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 requires version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969800" y="2689560"/>
            <a:ext cx="3502800" cy="3317400"/>
            <a:chOff x="4969800" y="2689560"/>
            <a:chExt cx="3502800" cy="3317400"/>
          </a:xfrm>
        </p:grpSpPr>
        <p:sp>
          <p:nvSpPr>
            <p:cNvPr id="567" name=""/>
            <p:cNvSpPr/>
            <p:nvPr/>
          </p:nvSpPr>
          <p:spPr>
            <a:xfrm>
              <a:off x="6400800" y="2689560"/>
              <a:ext cx="17524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Impr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81840" y="4318200"/>
              <a:ext cx="239076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Collaborate and Lea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9" name=""/>
            <p:cNvCxnSpPr>
              <a:stCxn id="567" idx="2"/>
              <a:endCxn id="568" idx="0"/>
            </p:cNvCxnSpPr>
            <p:nvPr/>
          </p:nvCxnSpPr>
          <p:spPr>
            <a:xfrm flipV="1" rot="10800000">
              <a:off x="7276320" y="3274560"/>
              <a:ext cx="1080" cy="10404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0" name=""/>
            <p:cNvCxnSpPr>
              <a:stCxn id="568" idx="2"/>
              <a:endCxn id="567" idx="1"/>
            </p:cNvCxnSpPr>
            <p:nvPr/>
          </p:nvCxnSpPr>
          <p:spPr>
            <a:xfrm flipV="1" rot="16200000">
              <a:off x="5633640" y="3747240"/>
              <a:ext cx="2410560" cy="876960"/>
            </a:xfrm>
            <a:prstGeom prst="bentConnector4">
              <a:avLst>
                <a:gd name="adj1" fmla="val -25556"/>
                <a:gd name="adj2" fmla="val 26320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ur Outlook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needs of the many outweigh the needs of the few, or of the one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2:49:13Z</dcterms:created>
  <dc:creator>Suzanna Lewis</dc:creator>
  <dc:description/>
  <dc:language>en-US</dc:language>
  <cp:lastModifiedBy>Suzanna Lewis</cp:lastModifiedBy>
  <cp:lastPrinted>2005-12-14T03:57:15Z</cp:lastPrinted>
  <dcterms:modified xsi:type="dcterms:W3CDTF">2006-03-05T23:23:32Z</dcterms:modified>
  <cp:revision>233</cp:revision>
  <dc:subject/>
  <dc:title>All ontology content developers need</dc:title>
</cp:coreProperties>
</file>